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AFA-184A-4A6D-9294-01FF706E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F59-91D4-4D7B-BF7E-0D8778DB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FE0A-C11D-4294-94C8-0BC74F1D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BF2-F2EF-4EB3-932A-3043E6D9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D1312-62EC-4049-9FE5-78A954B3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799E6-E25C-494E-B788-71968E7C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86142-A2BD-4B9E-9553-3A7E7726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707C8-9D09-4E60-A1E8-FD3CC95E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4EE0A-9076-4EA2-9115-BE87F9FA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D49EE-3CCB-4472-AEAA-25C0449D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9909B-1BBF-464F-BEA8-EA9A72CC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340-D90F-4957-977E-73F6C066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E3AF2-B7FE-4529-87E4-0147C383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CF0CA-BE27-4188-B5CA-1A5C3595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B8CD1-FB25-45A6-A8B3-E9913742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3AD9E-B472-4D23-9064-641B2DFA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537E2-A585-4625-A6AC-5CD64C14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C1A0-D123-4662-A816-9499161B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9F9-9E8E-46D9-81C0-1B2E2FFE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B1B8-6D49-4101-8C0B-3D8EF92C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61C9-0F49-475E-A914-353BC83F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13A3-C593-412C-BAF1-A61B1419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D0FE-AE4A-4AF3-9771-29249E0A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679D-61B3-439E-A68E-E100B580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1BEC-9F59-4ED6-A75E-221FC96B7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C7D7-1954-4701-AE08-4C63895206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hyperlink" Target="file:///ANGLES_EXT/polygone_girard.fig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ONSTR_LYCEE/Parab_Cone.cg3" TargetMode="External"/><Relationship Id="rId3" Type="http://schemas.openxmlformats.org/officeDocument/2006/relationships/hyperlink" Target="file:///CONSTR_LYCEE/Parab_Foyer_Dir.cg3" TargetMode="External"/><Relationship Id="rId4" Type="http://schemas.openxmlformats.org/officeDocument/2006/relationships/hyperlink" Target="file:///CONSTR_LYCEE/Parab_Dand.cg3" TargetMode="External"/><Relationship Id="rId5" Type="http://schemas.openxmlformats.org/officeDocument/2006/relationships/hyperlink" Target="file:///CONSTR_LYCEE/Parab_Dand_gen.cg3" TargetMode="External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ONSTR_LYCEE/Ellipse_Dand.cg3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hyperlink" Target="file:///Filou_1.cg3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Cha_Cha_Cha_demo.cg3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000" y="2042640"/>
            <a:ext cx="73422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écouvrir ou redécouvrir avec Cabri 3D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an-Jacques Da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REM de Toulo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jjdahan@wanadoo.f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abri3ActiveDoc1" descr=""/>
          <p:cNvPicPr/>
          <p:nvPr/>
        </p:nvPicPr>
        <p:blipFill>
          <a:blip r:embed="rId2"/>
          <a:stretch/>
        </p:blipFill>
        <p:spPr>
          <a:xfrm>
            <a:off x="1333440" y="500040"/>
            <a:ext cx="58309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abri3ActiveDoc1" descr=""/>
          <p:cNvPicPr/>
          <p:nvPr/>
        </p:nvPicPr>
        <p:blipFill>
          <a:blip r:embed="rId2"/>
          <a:stretch/>
        </p:blipFill>
        <p:spPr>
          <a:xfrm>
            <a:off x="1333440" y="500040"/>
            <a:ext cx="58309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lques entrées pour le lycé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ude sur une balançoi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yage laser d’une pyram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 théorème du 40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abri3ActiveDoc1" descr=""/>
          <p:cNvPicPr/>
          <p:nvPr/>
        </p:nvPicPr>
        <p:blipFill>
          <a:blip r:embed="rId2"/>
          <a:stretch/>
        </p:blipFill>
        <p:spPr>
          <a:xfrm>
            <a:off x="976320" y="500040"/>
            <a:ext cx="6475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Cabri3ActiveDoc1" descr=""/>
          <p:cNvPicPr/>
          <p:nvPr/>
        </p:nvPicPr>
        <p:blipFill>
          <a:blip r:embed="rId2"/>
          <a:stretch/>
        </p:blipFill>
        <p:spPr>
          <a:xfrm>
            <a:off x="1333440" y="500040"/>
            <a:ext cx="58309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Cabri3ActiveDoc1" descr=""/>
          <p:cNvPicPr/>
          <p:nvPr/>
        </p:nvPicPr>
        <p:blipFill>
          <a:blip r:embed="rId2"/>
          <a:stretch/>
        </p:blipFill>
        <p:spPr>
          <a:xfrm>
            <a:off x="1333440" y="500040"/>
            <a:ext cx="5830920" cy="5857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-56520" y="-12600"/>
            <a:ext cx="92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étermination du maximum du volume de l’enveloppe convexe du patron d’un cu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6308640"/>
            <a:ext cx="590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uvrir ou fermer l’enveloppe convexe pour expérim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Cabri3ActiveDoc1" descr=""/>
          <p:cNvPicPr/>
          <p:nvPr/>
        </p:nvPicPr>
        <p:blipFill>
          <a:blip r:embed="rId2"/>
          <a:stretch/>
        </p:blipFill>
        <p:spPr>
          <a:xfrm>
            <a:off x="1333440" y="500040"/>
            <a:ext cx="5902560" cy="585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28360" y="6308640"/>
            <a:ext cx="68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irer sur les gros points pour reconstituer l’enveloppe conve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Cabri3ActiveDoc1" descr=""/>
          <p:cNvPicPr/>
          <p:nvPr/>
        </p:nvPicPr>
        <p:blipFill>
          <a:blip r:embed="rId2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ution: théorème du 401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314172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00"/>
                </a:solidFill>
                <a:latin typeface="Times New Roman"/>
              </a:rPr>
              <a:t>Maximum : 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4,014137</a:t>
            </a:r>
            <a:r>
              <a:rPr b="1" i="1" lang="fr-FR" sz="3200" spc="-1" strike="noStrike">
                <a:solidFill>
                  <a:srgbClr val="ffff00"/>
                </a:solidFill>
                <a:latin typeface="Times New Roman"/>
              </a:rPr>
              <a:t> pour a = 40,141113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r>
              <a:rPr b="1" i="1" lang="fr-FR" sz="3200" spc="-1" strike="noStrike">
                <a:solidFill>
                  <a:srgbClr val="ffff00"/>
                </a:solidFill>
                <a:latin typeface="Times New Roman"/>
              </a:rPr>
              <a:t>(obtenu avec la Voyage 20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00"/>
                </a:solidFill>
                <a:latin typeface="Times New Roman"/>
              </a:rPr>
              <a:t>V’(a) est donnée par la formule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95280" y="5445000"/>
          <a:ext cx="8604360" cy="89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5445000"/>
                    <a:ext cx="860436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979640" y="1916280"/>
          <a:ext cx="453708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79640" y="1916280"/>
                    <a:ext cx="45370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95640" y="2060640"/>
            <a:ext cx="12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V(a)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u sujet des angles extérieu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’un polygone convex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’un polyèdre convex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De Flatland à Space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Une autre approche de l’e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(de Filou 1998 à Filou 200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Un autre monde de possi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(Filou et Filette 200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CabriGeometreIIPAX1"/>
          <p:cNvGraphicFramePr/>
          <p:nvPr/>
        </p:nvGraphicFramePr>
        <p:xfrm>
          <a:off x="250920" y="1052640"/>
          <a:ext cx="858204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CabriGeometreIIPAX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052640"/>
                    <a:ext cx="85820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6516360" y="6308640"/>
            <a:ext cx="2283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polygone_girard.f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9200" y="189000"/>
            <a:ext cx="46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’un polygone conv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040" y="6251400"/>
            <a:ext cx="61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irer sur le point rouge et cliquer sur les boutons blan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33280" y="0"/>
            <a:ext cx="51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’un polyèdre convexe (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Cabri3ActiveDoc1" descr=""/>
          <p:cNvPicPr/>
          <p:nvPr/>
        </p:nvPicPr>
        <p:blipFill>
          <a:blip r:embed="rId2"/>
          <a:stretch/>
        </p:blipFill>
        <p:spPr>
          <a:xfrm>
            <a:off x="1692360" y="765000"/>
            <a:ext cx="58309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3280" y="189000"/>
            <a:ext cx="51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’un polyèdre convexe 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Cabri3ActiveDoc1" descr=""/>
          <p:cNvPicPr/>
          <p:nvPr/>
        </p:nvPicPr>
        <p:blipFill>
          <a:blip r:embed="rId2"/>
          <a:stretch/>
        </p:blipFill>
        <p:spPr>
          <a:xfrm>
            <a:off x="1692360" y="836640"/>
            <a:ext cx="58309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033280" y="189000"/>
            <a:ext cx="51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’un polyèdre convexe (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Cabri3ActiveDoc1" descr=""/>
          <p:cNvPicPr/>
          <p:nvPr/>
        </p:nvPicPr>
        <p:blipFill>
          <a:blip r:embed="rId2"/>
          <a:stretch/>
        </p:blipFill>
        <p:spPr>
          <a:xfrm>
            <a:off x="1979640" y="83664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8480" y="5877000"/>
            <a:ext cx="747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minuer k et augmenter h pour montrer que la somme des ang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lides bleus est égale à 4*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50752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e approche nouvelle de y = x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C’est une conique au sens d’Appoloni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</a:t>
            </a:r>
            <a:r>
              <a:rPr b="0" lang="fr-FR" sz="1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Parab_Cone.cg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Découverte expérimentale de son foyer et de sa directrice                         </a:t>
            </a:r>
            <a:r>
              <a:rPr b="0" lang="fr-FR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arab_Foyer_Dir.cg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Visualisation de la preuve de Dandel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</a:t>
            </a:r>
            <a:r>
              <a:rPr b="0" lang="fr-FR" sz="1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Parab_Dand.cg3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fr-FR" sz="1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Parab_Dand_gen.cg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50752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Le cas des ellipses d’Appoloni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es foyers sont bien les points de contact des sphères tange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Visualisation de la preuve de Dandel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</a:t>
            </a:r>
            <a:r>
              <a:rPr b="0" lang="fr-FR" sz="1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Ellipse_Dand.cg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Constructions modélisa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Pour aller du concret vers l’abstra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es connaissances sont fortement sollicitées et enrich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Cabri3ActiveDoc1" descr=""/>
          <p:cNvPicPr/>
          <p:nvPr/>
        </p:nvPicPr>
        <p:blipFill>
          <a:blip r:embed="rId2"/>
          <a:stretch/>
        </p:blipFill>
        <p:spPr>
          <a:xfrm>
            <a:off x="1333440" y="500040"/>
            <a:ext cx="59025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755640" y="907920"/>
            <a:ext cx="604980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erci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4832640" y="515772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jdahan@wanadoo.f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abri3ActiveDoc1" descr=""/>
          <p:cNvPicPr/>
          <p:nvPr/>
        </p:nvPicPr>
        <p:blipFill>
          <a:blip r:embed="rId2"/>
          <a:stretch/>
        </p:blipFill>
        <p:spPr>
          <a:xfrm>
            <a:off x="1333440" y="500040"/>
            <a:ext cx="5902560" cy="5857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09960" y="6553080"/>
            <a:ext cx="110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Filou_1.cg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29120" y="0"/>
            <a:ext cx="35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eci est une figure manipu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17040" y="6491160"/>
            <a:ext cx="41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en vers la figure Cabri 3D origina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47640" y="404640"/>
            <a:ext cx="6120000" cy="5680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4958280" y="6237360"/>
            <a:ext cx="2794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Cha_Cha_Cha_demo.cg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01360" y="623736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en vers le fichier Cabri 3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uelques entrées pour le collèg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crire son nom dans l’e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ire une maison réalis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ire un manège anim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der une pisc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Cabri3ActiveDoc1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58309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abri3ActiveDoc1" descr=""/>
          <p:cNvPicPr/>
          <p:nvPr/>
        </p:nvPicPr>
        <p:blipFill>
          <a:blip r:embed="rId2"/>
          <a:stretch/>
        </p:blipFill>
        <p:spPr>
          <a:xfrm>
            <a:off x="1403280" y="692280"/>
            <a:ext cx="5761080" cy="5761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61400" y="189000"/>
            <a:ext cx="722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nger le point de vue en déplaçant la souris clic droit mainte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abri3ActiveDoc1" descr=""/>
          <p:cNvPicPr/>
          <p:nvPr/>
        </p:nvPicPr>
        <p:blipFill>
          <a:blip r:embed="rId2"/>
          <a:stretch/>
        </p:blipFill>
        <p:spPr>
          <a:xfrm>
            <a:off x="1403280" y="692280"/>
            <a:ext cx="5832720" cy="5857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468080" y="189000"/>
            <a:ext cx="59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ême manipulation pour comprendre la superch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abri3ActiveDoc1" descr=""/>
          <p:cNvPicPr/>
          <p:nvPr/>
        </p:nvPicPr>
        <p:blipFill>
          <a:blip r:embed="rId2"/>
          <a:stretch/>
        </p:blipFill>
        <p:spPr>
          <a:xfrm>
            <a:off x="1333440" y="500040"/>
            <a:ext cx="58309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5:33:55Z</dcterms:created>
  <dc:creator>Dahan</dc:creator>
  <dc:description/>
  <dc:language>en-US</dc:language>
  <cp:lastModifiedBy>Dahan</cp:lastModifiedBy>
  <dcterms:modified xsi:type="dcterms:W3CDTF">2009-01-12T17:47:04Z</dcterms:modified>
  <cp:revision>17</cp:revision>
  <dc:subject/>
  <dc:title>Découvrir ou redécouvrir avec Cabri 3D </dc:title>
</cp:coreProperties>
</file>